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C4D36-38B9-4596-B383-C1E23275B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43939-5FA4-46F6-AAA5-FF91E6330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A9F35-199F-4E44-B967-A311BEC2AD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DE7E-76F2-4B39-8672-7972A1ECFB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D0A4-D0FE-446D-B1B7-AB93465AC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C81A3-A820-4A97-9DF7-67C0C67992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87BA8-6ED1-4438-BF00-7335F5D857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84988-A7B7-4EAA-8C39-28B8B03A6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EA64-9E54-413A-A926-EB53F8682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49D68-FE27-4E33-9B18-8CA7FE75F3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0715-22A6-4BAF-AF0A-AC88489428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8CD8-5770-4346-9E01-735DA190AF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D16826A0-9EB0-49E6-A1E6-2EC1F31C94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ample Tit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ample Subtit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0T21:16:42Z</dcterms:created>
  <dc:creator>Iwo Kadziela</dc:creator>
  <dc:description/>
  <dc:language>en-US</dc:language>
  <cp:lastModifiedBy>Iwo Kadziela</cp:lastModifiedBy>
  <dcterms:modified xsi:type="dcterms:W3CDTF">2013-05-10T21:17:18Z</dcterms:modified>
  <cp:revision>1</cp:revision>
  <dc:subject/>
  <dc:title>Sample Title</dc:title>
</cp:coreProperties>
</file>